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89E7-D625-45B8-BA96-292684B0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5FAE-53A3-49BE-9464-13E43E1F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9B22-25D1-4537-BDF7-669C8582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BCD4-62C8-4C9A-B986-F89A9C1E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166A-1C97-4BFB-9A4F-056A815B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C3A0-8EBC-4E80-8DDA-DF240290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9A03-255F-44BA-A037-24251C54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E786-ADCD-43D0-AE1A-EE7D25AC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5AA4-C2EB-42EA-B552-676FC422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DDD7-0C7F-4D9F-97F0-10C7F404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5A4C-D544-4367-AA2F-57C91009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B27C-6DD0-4BD4-B2C2-028FF626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0E8C-7B91-4518-A427-BC0AF909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B773-3730-42EB-8B69-0FC69E1A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13E8-745E-42B1-BC95-5E87446D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9E3B-1693-4218-A49A-0022D6F6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9825-5F6D-4E7B-9479-C7145605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DBCD2B-535D-436A-8F42-0AF52774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B7362E-F35F-4FDD-8086-DCE84B7C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30E5DA-39DF-4470-A16F-EF9A768D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9CDB7D-18BA-4DC0-88EB-8EAB82D0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1E1D00-7E62-4DD6-A36A-7FCA7BD3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C965-4DDE-474B-9D18-2C133D05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774A5B-47F4-41E2-86C0-15595A03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09DDB8-EAC2-497C-8B43-8C723D32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F851D4-EB41-4366-BB47-C7E03C50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086D4-C7AB-41B2-A610-DC641DCF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24D0C8-EEFC-4FC6-99CC-572888F3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369217-3AF8-4098-94DE-11EC1B70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337892-1E49-48E3-8A3A-477C4F91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1C711-236A-4968-8BA8-358438E5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7F3BC-BC6E-4818-8139-5381D285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6FC9D-22BD-4B1C-B3D6-C7C9CE12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214D-0613-451C-B119-74C57BA0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6A2DF-8F2C-4CC6-B7A6-B0902F94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6336B-62E5-4A31-9A23-821EC062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DAD71-8CE6-4035-84BB-C1D4B1A4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50866-2523-4FBE-99B6-4D692332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9CDAD-C02D-43C0-A451-EAF259EC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1AB44-8700-4F9F-87E6-39CFB3D8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5727C-3950-4E5B-8D84-C0C6E2DE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74256-7E2F-4939-913A-A3BEF4C0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1572B-3439-4C74-A604-C88F83F1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297E-04B2-4CD7-A6E9-77B208CC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3E5D-0F1D-4E18-8A66-18A901E1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DBF1-A096-4319-958B-CA6239A7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436A-F05A-49AA-8E76-76124A1F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584E-49D9-4E88-BAC7-EB495524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6913-7EAB-402C-9E45-B9B442E46D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9E5B-D2AF-46DD-833D-D6A36E6D57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E842-B500-41C9-A23B-A9E8D9A1D7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0542-5BFF-405D-8ECC-60014320C0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lecting a Reader and a Text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electing a Reader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p and run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ading nee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re information need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n-proficient reader**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llect Dat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urke Reading Inventory (p. 273/275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ading Surve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ading Conferenc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electing a tex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plete tex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nfamiliar to reader but familiar concep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lightly challeng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esting to stud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y gen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iction must have a story lin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onfiction must develop at least one concept or fully describe an act or ev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nimum of 500 words (two books for younger reader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ext Features to Consider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mplexity of concep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terest to the read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npredictable beginning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eaks in the traditional sequence of ev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formation that is irrelevant to the entire tex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nusual punctuation or pri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nfamiliar language features (including dialect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ew and unfamiliar inform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eparing the Typescrip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hould look just like original tex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Line length, spelling, punctua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a large font (at least 14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iple space between lines and between wor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solid horizontal line to signify the end of each pa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umber the lines for each pa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Prepare Retelling Guide </a:t>
            </a:r>
            <a:r>
              <a:rPr b="0" lang="en-US" sz="2800" spc="-1" strike="noStrike">
                <a:solidFill>
                  <a:srgbClr val="424456"/>
                </a:solidFill>
                <a:latin typeface="Trebuchet MS"/>
              </a:rPr>
              <a:t>(p. 51/260/271)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o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List of character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Main event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Setting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ssign points to each ite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lude additional space for a plot summary and them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on-fic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List of main concept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Detail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Main idea of passage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ssign points to each ite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Your Tas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ine several texts for features that support and imped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d examples of texts that may create barriers for studen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e there texts that you use, for example, that you find many students miscue in the same places?  Could this be an issue with the tex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n the Wiki, describe one text that you examined that may create a barrier for some reader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02:28:55Z</dcterms:created>
  <dc:creator>College of Education</dc:creator>
  <dc:description/>
  <dc:language>en-US</dc:language>
  <cp:lastModifiedBy>Linda Wedwick</cp:lastModifiedBy>
  <dcterms:modified xsi:type="dcterms:W3CDTF">2009-05-31T18:28:59Z</dcterms:modified>
  <cp:revision>12</cp:revision>
  <dc:subject/>
  <dc:title>Selecting a Reader and a Text</dc:title>
</cp:coreProperties>
</file>